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74070-8C78-451F-AD4E-DDCC6608C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A3E81-7480-4B1E-B68F-D030FECC9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6AB8F-31B8-48B1-A8F2-85D09B9D8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EEC67-561B-44C1-A1F8-EF18E04EA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78FF3-524F-4F1C-9B70-5627D0026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14653-1056-4C54-A30F-32AAA7E97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D4B56-BD04-439D-AD48-79702A042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7A1D2-1286-4CA0-8B06-BE1C34CC9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A58C8-539E-49E6-8863-0FB2AF7DF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9F222-19E9-44DE-9928-0DEA7B930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E5659-B260-437A-B0F6-4A5785A6F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DA13F-6E03-4143-8411-0D871E973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00"/>
            </a:gs>
            <a:gs pos="100000">
              <a:srgbClr val="ff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BCA8F-D358-47E5-9F2B-F14146535A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05b5c"/>
            </a:gs>
            <a:gs pos="50000">
              <a:srgbClr val="111111"/>
            </a:gs>
            <a:gs pos="100000">
              <a:srgbClr val="505b5c"/>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JasmineUPC"/>
              </a:rPr>
              <a:t>New Arriva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 </a:t>
            </a:r>
            <a:r>
              <a:rPr b="0" lang="en-US" sz="3200" spc="-1" strike="noStrike">
                <a:solidFill>
                  <a:srgbClr val="66ff33"/>
                </a:solidFill>
                <a:latin typeface="JasmineUPC"/>
              </a:rPr>
              <a:t>By Abbey Lowe, Dylan Attard, Christopher Caruso and Matthew Richings</a:t>
            </a:r>
            <a:endParaRPr b="0" lang="en-US" sz="3200" spc="-1" strike="noStrike">
              <a:solidFill>
                <a:srgbClr val="000000"/>
              </a:solidFill>
              <a:latin typeface="Arial"/>
            </a:endParaRPr>
          </a:p>
        </p:txBody>
      </p:sp>
      <p:pic>
        <p:nvPicPr>
          <p:cNvPr id="43" name="" descr=""/>
          <p:cNvPicPr/>
          <p:nvPr/>
        </p:nvPicPr>
        <p:blipFill>
          <a:blip r:embed="rId1"/>
          <a:stretch/>
        </p:blipFill>
        <p:spPr>
          <a:xfrm>
            <a:off x="3276720" y="549360"/>
            <a:ext cx="2736720" cy="180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0.16042 0.02728 C -0.17778 0.01965 -0.18907 0.02728 -0.2033 0.03584 C -0.21198 0.04116 -0.22275 0.04231 -0.23177 0.04624 C -0.23559 0.04786 -0.23907 0.05133 -0.24289 0.05272 C -0.25886 0.05896 -0.27882 0.05919 -0.29532 0.06104 C -0.32709 0.07353 -0.36129 0.06867 -0.39375 0.07815 C -0.39584 0.07954 -0.39775 0.08116 -0.4 0.08231 C -0.40209 0.08324 -0.40434 0.08324 -0.40643 0.08439 C -0.40816 0.08532 -0.40938 0.0874 -0.41111 0.08856 C -0.41268 0.08948 -0.41441 0.08994 -0.41598 0.09064 C -0.41997 0.09619 -0.42379 0.09919 -0.42709 0.10543 C -0.43351 0.13202 -0.43403 0.16486 -0.43664 0.19214 C -0.43716 0.25272 -0.43316 0.31399 -0.43976 0.3741 C -0.44046 0.38058 -0.44219 0.38659 -0.44289 0.39306 C -0.44532 0.41272 -0.44723 0.4326 -0.44931 0.45226 C -0.44983 0.45711 -0.45087 0.46705 -0.45087 0.46705 C -0.44983 0.51445 -0.45296 0.52671 -0.44601 0.56 C -0.44549 0.57896 -0.44532 0.59815 -0.44445 0.61711 C -0.44046 0.69688 -0.3323 0.65896 -0.30955 0.65942 C -0.29011 0.6622 -0.27188 0.6696 -0.25243 0.67214 C -0.21476 0.68439 -0.17986 0.68879 -0.14132 0.6911 C -0.11302 0.68879 -0.08525 0.68624 -0.05712 0.68254 C -0.04098 0.67676 -0.02605 0.67445 -0.00955 0.67214 C 0.025 0.6585 0.05937 0.65133 0.09514 0.64462 C 0.13836 0.64578 0.17326 0.64647 0.21423 0.65087 C 0.24948 0.64879 0.27222 0.64832 0.30312 0.64254 C 0.31041 0.63977 0.31805 0.63884 0.32534 0.63607 C 0.32882 0.63468 0.33159 0.63121 0.33489 0.62983 C 0.34062 0.62474 0.34062 0.62127 0.34288 0.61295 C 0.33941 0.47676 0.3335 0.33364 0.30156 0.20278 C 0.29618 0.18104 0.28889 0.16046 0.28246 0.13942 C 0.27934 0.11792 0.27569 0.09249 0.26666 0.07376 C 0.2651 0.06358 0.26267 0.0541 0.26024 0.04416 C 0.25659 0.02867 0.25764 0.01133 0.25069 -0.00231 C 0.24757 -0.0148 0.24427 -0.02266 0.24114 -0.03399 C 0.29305 -0.05618 0.37534 -0.03376 0.43645 -0.02983 C 0.46909 -0.03121 0.50086 -0.02983 0.53333 -0.02983 E">
                                      <p:cBhvr>
                                        <p:cTn id="6" dur="2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JasmineUPC"/>
              </a:rPr>
              <a:t>In Australia a</a:t>
            </a:r>
            <a:r>
              <a:rPr b="0" lang="en-US" sz="2400" spc="-1" strike="noStrike">
                <a:solidFill>
                  <a:srgbClr val="333399"/>
                </a:solidFill>
                <a:latin typeface="JasmineUPC"/>
              </a:rPr>
              <a:t> lot of countries have come to Australia because it is a beautiful country.</a:t>
            </a:r>
            <a:r>
              <a:rPr b="0" lang="en-US" sz="2400" spc="-1" strike="noStrike">
                <a:solidFill>
                  <a:srgbClr val="0066ff"/>
                </a:solidFill>
                <a:latin typeface="JasmineUPC"/>
              </a:rPr>
              <a:t>  </a:t>
            </a:r>
            <a:endParaRPr b="0" lang="en-US" sz="2400" spc="-1" strike="noStrike">
              <a:solidFill>
                <a:srgbClr val="000000"/>
              </a:solidFill>
              <a:latin typeface="Arial"/>
            </a:endParaRPr>
          </a:p>
        </p:txBody>
      </p:sp>
      <p:pic>
        <p:nvPicPr>
          <p:cNvPr id="45" name="" descr=""/>
          <p:cNvPicPr/>
          <p:nvPr/>
        </p:nvPicPr>
        <p:blipFill>
          <a:blip r:embed="rId1"/>
          <a:stretch/>
        </p:blipFill>
        <p:spPr>
          <a:xfrm>
            <a:off x="1835280" y="2421000"/>
            <a:ext cx="5238720" cy="3581280"/>
          </a:xfrm>
          <a:prstGeom prst="rect">
            <a:avLst/>
          </a:prstGeom>
          <a:ln w="0">
            <a:noFill/>
          </a:ln>
        </p:spPr>
      </p:pic>
      <p:pic>
        <p:nvPicPr>
          <p:cNvPr id="46" name="" descr=""/>
          <p:cNvPicPr/>
          <p:nvPr/>
        </p:nvPicPr>
        <p:blipFill>
          <a:blip r:embed="rId2"/>
          <a:stretch/>
        </p:blipFill>
        <p:spPr>
          <a:xfrm>
            <a:off x="3995640" y="4797360"/>
            <a:ext cx="936720" cy="4381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0">
                                  <p:stCondLst>
                                    <p:cond delay="0"/>
                                  </p:stCondLst>
                                  <p:childTnLst>
                                    <p:animMotion origin="layout" path="M 5.83333E-006 5.20231E-007 C 0.03438 0.00231 0.03872 0.00393 0.07622 0.00208 C 0.07865 0.00161 0.08716 0.00046 0.09046 -0.00209 C 0.09602 -0.00625 0.10053 -0.01318 0.10626 -0.01688 C 0.11043 -0.01966 0.11494 -0.02058 0.11911 -0.02313 C 0.12379 -0.0296 0.12831 -0.03168 0.1349 -0.03376 C 0.13768 -0.03631 0.13994 -0.04 0.14289 -0.04232 C 0.15279 -0.05018 0.16668 -0.05665 0.17779 -0.0592 C 0.18473 -0.0622 0.19133 -0.06382 0.19845 -0.06544 C 0.20504 -0.07122 0.21008 -0.077 0.21737 -0.08024 C 0.23004 -0.09157 0.2198 -0.10105 0.21268 -0.11191 C 0.2047 -0.12417 0.19602 -0.12902 0.18577 -0.13735 C 0.18352 -0.1392 0.18161 -0.14174 0.17935 -0.14382 C 0.17622 -0.14683 0.1731 -0.1496 0.1698 -0.15214 C 0.16303 -0.15746 0.15574 -0.15931 0.14914 -0.16486 C 0.14602 -0.1711 0.14081 -0.17526 0.13803 -0.18174 C 0.13369 -0.19145 0.12136 -0.21365 0.11268 -0.21781 C 0.09706 -0.23862 0.11754 -0.21318 0.10313 -0.22613 C 0.09115 -0.23677 0.10522 -0.22983 0.09359 -0.23469 C 0.08942 -0.24024 0.0849 -0.24394 0.08091 -0.24948 C 0.07935 -0.2622 0.08056 -0.26891 0.0698 -0.26428 C 0.06633 -0.26105 0.06216 -0.2592 0.05869 -0.25573 C 0.04254 -0.23908 0.05886 -0.24948 0.04289 -0.24093 C 0.03404 -0.2296 0.02293 -0.22035 0.01268 -0.21133 C 0.00765 -0.21596 0.00504 -0.21943 0.00157 -0.22613 C -0.00086 -0.23908 0.0007 -0.23191 -0.00312 -0.2474 C -0.00468 -0.25342 -0.01718 -0.26382 -0.02065 -0.26844 C -0.03055 -0.24116 -0.02273 -0.26521 -0.02707 -0.19862 C -0.02794 -0.18474 -0.03055 -0.16972 -0.03332 -0.15631 C -0.03471 -0.15006 -0.03437 -0.13781 -0.03975 -0.13526 C -0.04478 -0.13272 -0.05034 -0.13272 -0.05555 -0.1311 C -0.06371 -0.12555 -0.07239 -0.12255 -0.08089 -0.11839 C -0.0868 -0.11538 -0.09096 -0.11029 -0.09687 -0.10775 C -0.10971 -0.0955 -0.10364 -0.0985 -0.11423 -0.09503 C -0.12135 -0.08925 -0.12951 -0.0844 -0.13645 -0.07815 C -0.14826 -0.09318 -0.13871 -0.12232 -0.1302 -0.13735 C -0.12655 -0.15237 -0.12898 -0.14636 -0.12378 -0.15631 C -0.12464 -0.16463 -0.12829 -0.18844 -0.13176 -0.19654 C -0.1328 -0.19908 -0.13506 -0.20047 -0.13645 -0.20301 C -0.13784 -0.20555 -0.13871 -0.20856 -0.13975 -0.21133 C -0.14183 -0.20995 -0.14895 -0.20555 -0.15086 -0.20301 C -0.15225 -0.20116 -0.15242 -0.19792 -0.15398 -0.19654 C -0.15624 -0.19422 -0.15937 -0.19399 -0.16197 -0.19237 C -0.17169 -0.1859 -0.18037 -0.17665 -0.19044 -0.1711 C -0.19357 -0.16948 -0.19704 -0.16902 -0.19999 -0.16694 C -0.20763 -0.16185 -0.21457 -0.15515 -0.22221 -0.15006 C -0.2243 -0.14868 -0.22864 -0.1459 -0.22864 -0.1459 C -0.22968 -0.14451 -0.23107 -0.13966 -0.23176 -0.14151 C -0.2328 -0.14405 -0.23072 -0.14729 -0.2302 -0.15006 C -0.22829 -0.15931 -0.22395 -0.16648 -0.21909 -0.17342 C -0.21666 -0.18313 -0.21527 -0.19029 -0.2111 -0.19862 C -0.20937 -0.20787 -0.20815 -0.21966 -0.20485 -0.22821 C -0.20034 -0.24 -0.20155 -0.22891 -0.20155 -0.24301 E">
                                      <p:cBhvr>
                                        <p:cTn id="12" dur="2000" fill="hold"/>
                                        <p:tgtEl>
                                          <p:spTgt spid="4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000000"/>
            </a:gs>
            <a:gs pos="100000">
              <a:srgbClr val="ff0000"/>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Jasmine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JasmineUPC"/>
              </a:rPr>
              <a:t>Heaps of people come to Australia because they are escaping from the war in their country, sometimes because there were fights happening in their country, because Australia doesn't have war any more and also because Australia is a safe place to live. </a:t>
            </a:r>
            <a:endParaRPr b="0" lang="en-US" sz="3200" spc="-1" strike="noStrike">
              <a:solidFill>
                <a:srgbClr val="000000"/>
              </a:solidFill>
              <a:latin typeface="Arial"/>
            </a:endParaRPr>
          </a:p>
        </p:txBody>
      </p:sp>
      <p:pic>
        <p:nvPicPr>
          <p:cNvPr id="48" name="" descr=""/>
          <p:cNvPicPr/>
          <p:nvPr/>
        </p:nvPicPr>
        <p:blipFill>
          <a:blip r:embed="rId1"/>
          <a:stretch/>
        </p:blipFill>
        <p:spPr>
          <a:xfrm>
            <a:off x="1403280" y="3860640"/>
            <a:ext cx="6551640" cy="27972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8">
                                  <p:stCondLst>
                                    <p:cond delay="0"/>
                                  </p:stCondLst>
                                  <p:childTnLst>
                                    <p:animRot by="21600000">
                                      <p:cBhvr>
                                        <p:cTn id="18" dur="2000" fill="hold"/>
                                        <p:tgtEl>
                                          <p:spTgt spid="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000000"/>
            </a:gs>
            <a:gs pos="100000">
              <a:srgbClr val="66ff33"/>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95280" y="1557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loved there families so much that they left their countries to save their children from getting hurt in the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5">
                                  <p:stCondLst>
                                    <p:cond delay="0"/>
                                  </p:stCondLst>
                                  <p:childTnLst>
                                    <p:set>
                                      <p:cBhvr>
                                        <p:cTn id="24" dur="1" fill="hold">
                                          <p:stCondLst>
                                            <p:cond delay="0"/>
                                          </p:stCondLst>
                                        </p:cTn>
                                        <p:tgtEl>
                                          <p:spTgt spid="49">
                                            <p:txEl>
                                              <p:pRg st="0" end="0"/>
                                            </p:txEl>
                                          </p:spTgt>
                                        </p:tgtEl>
                                        <p:attrNameLst>
                                          <p:attrName>style.visibility</p:attrName>
                                        </p:attrNameLst>
                                      </p:cBhvr>
                                      <p:to>
                                        <p:strVal val="visible"/>
                                      </p:to>
                                    </p:set>
                                    <p:animEffect filter="fade" transition="in">
                                      <p:cBhvr additive="repl">
                                        <p:cTn id="25" dur="2000"/>
                                        <p:tgtEl>
                                          <p:spTgt spid="49">
                                            <p:txEl>
                                              <p:pRg st="0" end="0"/>
                                            </p:txEl>
                                          </p:spTgt>
                                        </p:tgtEl>
                                      </p:cBhvr>
                                    </p:animEffect>
                                    <p:anim calcmode="lin" valueType="num">
                                      <p:cBhvr additive="repl">
                                        <p:cTn id="26" dur="2000" fill="hold"/>
                                        <p:tgtEl>
                                          <p:spTgt spid="49">
                                            <p:txEl>
                                              <p:pRg st="0" end="0"/>
                                            </p:txEl>
                                          </p:spTgt>
                                        </p:tgtEl>
                                        <p:attrNameLst>
                                          <p:attrName>r</p:attrName>
                                        </p:attrNameLst>
                                      </p:cBhvr>
                                      <p:tavLst>
                                        <p:tav tm="0">
                                          <p:val>
                                            <p:strVal val="720"/>
                                          </p:val>
                                        </p:tav>
                                        <p:tav tm="100000">
                                          <p:val>
                                            <p:strVal val="0"/>
                                          </p:val>
                                        </p:tav>
                                      </p:tavLst>
                                    </p:anim>
                                    <p:anim calcmode="lin" valueType="num">
                                      <p:cBhvr additive="repl">
                                        <p:cTn id="27" dur="2000" fill="hold"/>
                                        <p:tgtEl>
                                          <p:spTgt spid="49">
                                            <p:txEl>
                                              <p:pRg st="0" end="0"/>
                                            </p:txEl>
                                          </p:spTgt>
                                        </p:tgtEl>
                                        <p:attrNameLst>
                                          <p:attrName>ppt_h</p:attrName>
                                        </p:attrNameLst>
                                      </p:cBhvr>
                                      <p:tavLst>
                                        <p:tav tm="0">
                                          <p:val>
                                            <p:fltVal val="0"/>
                                          </p:val>
                                        </p:tav>
                                        <p:tav tm="100000">
                                          <p:val>
                                            <p:strVal val="#ppt_h"/>
                                          </p:val>
                                        </p:tav>
                                      </p:tavLst>
                                    </p:anim>
                                    <p:anim calcmode="lin" valueType="num">
                                      <p:cBhvr additive="repl">
                                        <p:cTn id="28" dur="2000" fill="hold"/>
                                        <p:tgtEl>
                                          <p:spTgt spid="49">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3399"/>
            </a:gs>
            <a:gs pos="100000">
              <a:srgbClr val="ffff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539640" y="1628640"/>
            <a:ext cx="8229600" cy="4525920"/>
          </a:xfrm>
          <a:prstGeom prst="rect">
            <a:avLst/>
          </a:prstGeom>
          <a:solidFill>
            <a:srgbClr val="bbe0e3"/>
          </a:solidFill>
          <a:ln w="0">
            <a:noFill/>
          </a:ln>
        </p:spPr>
        <p:txBody>
          <a:bodyPr lIns="90000" rIns="90000" tIns="46800" bIns="46800" anchor="t">
            <a:normAutofit/>
          </a:bodyPr>
          <a:p>
            <a:pPr marL="343080" indent="-343080">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Many from their country people came by ships to Australia.</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 name="" descr=""/>
          <p:cNvPicPr/>
          <p:nvPr/>
        </p:nvPicPr>
        <p:blipFill>
          <a:blip r:embed="rId1"/>
          <a:stretch/>
        </p:blipFill>
        <p:spPr>
          <a:xfrm>
            <a:off x="4716360" y="3068640"/>
            <a:ext cx="2448000" cy="1646280"/>
          </a:xfrm>
          <a:prstGeom prst="rect">
            <a:avLst/>
          </a:prstGeom>
          <a:ln w="0">
            <a:noFill/>
          </a:ln>
        </p:spPr>
      </p:pic>
      <p:pic>
        <p:nvPicPr>
          <p:cNvPr id="53" name="" descr=""/>
          <p:cNvPicPr/>
          <p:nvPr/>
        </p:nvPicPr>
        <p:blipFill>
          <a:blip r:embed="rId2"/>
          <a:stretch/>
        </p:blipFill>
        <p:spPr>
          <a:xfrm>
            <a:off x="1332000" y="3357720"/>
            <a:ext cx="3024000" cy="1630080"/>
          </a:xfrm>
          <a:prstGeom prst="rect">
            <a:avLst/>
          </a:prstGeom>
          <a:ln w="0">
            <a:noFill/>
          </a:ln>
        </p:spPr>
      </p:pic>
      <p:pic>
        <p:nvPicPr>
          <p:cNvPr id="54" name="" descr=""/>
          <p:cNvPicPr/>
          <p:nvPr/>
        </p:nvPicPr>
        <p:blipFill>
          <a:blip r:embed="rId3"/>
          <a:stretch/>
        </p:blipFill>
        <p:spPr>
          <a:xfrm>
            <a:off x="5435640" y="3789360"/>
            <a:ext cx="360360" cy="16812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0.17153 0.01595 C 0.20243 0.02405 0.17448 0.0178 0.22239 0.02243 C 0.23298 0.02335 0.25416 0.02659 0.25416 0.02659 C 0.27743 0.03422 0.30104 0.04231 0.32396 0.05202 C 0.33646 0.05734 0.34462 0.06173 0.35729 0.06451 C 0.38229 0.06243 0.40712 0.05827 0.43194 0.0541 C 0.43715 0.05202 0.44236 0.04948 0.44774 0.04763 C 0.45243 0.04601 0.45746 0.04532 0.46215 0.04347 C 0.46823 0.04092 0.47344 0.03514 0.47951 0.03283 C 0.48871 0.02936 0.49878 0.02751 0.50816 0.02451 C 0.51875 0.0259 0.52951 0.0259 0.53993 0.02867 C 0.54288 0.02936 0.54496 0.03306 0.54774 0.03491 C 0.55312 0.03861 0.55937 0.03838 0.56528 0.03931 C 0.63194 0.03746 0.61944 0.04254 0.65573 0.03075 C 0.66684 0.02197 0.67639 0.02312 0.68906 0.02012 C 0.72725 0.01133 0.76614 0.00301 0.80486 -0.00092 C 0.83871 -0.00416 0.83819 0.01179 0.83819 -0.00509 E">
                                      <p:cBhvr>
                                        <p:cTn id="34" dur="2000" fill="hold"/>
                                        <p:tgtEl>
                                          <p:spTgt spid="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50000">
              <a:srgbClr val="ff6600"/>
            </a:gs>
            <a:gs pos="100000">
              <a:srgbClr val="cc0099"/>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Australia is so lucky to have all the other immigrants come to Australi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50000">
              <a:srgbClr val="ff0066"/>
            </a:gs>
            <a:gs pos="100000">
              <a:srgbClr val="00ff00"/>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for watching our presentation  </a:t>
            </a:r>
            <a:endParaRPr b="0" lang="en-US" sz="3200" spc="-1" strike="noStrike">
              <a:solidFill>
                <a:srgbClr val="000000"/>
              </a:solidFill>
              <a:latin typeface="Arial"/>
            </a:endParaRPr>
          </a:p>
        </p:txBody>
      </p:sp>
      <p:sp>
        <p:nvSpPr>
          <p:cNvPr id="59" name=""/>
          <p:cNvSpPr/>
          <p:nvPr/>
        </p:nvSpPr>
        <p:spPr>
          <a:xfrm>
            <a:off x="2536920" y="3303720"/>
            <a:ext cx="1440" cy="1440"/>
          </a:xfrm>
          <a:custGeom>
            <a:avLst/>
            <a:gdLst/>
            <a:ahLst/>
            <a:rect l="l" t="t" r="r" b="b"/>
            <a:pathLst>
              <a:path w="1" h="1">
                <a:moveTo>
                  <a:pt x="7045" y="9178"/>
                </a:moveTo>
                <a:lnTo>
                  <a:pt x="7045" y="9178"/>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 name=""/>
          <p:cNvSpPr/>
          <p:nvPr/>
        </p:nvSpPr>
        <p:spPr>
          <a:xfrm>
            <a:off x="6750000" y="2724120"/>
            <a:ext cx="196920" cy="714240"/>
          </a:xfrm>
          <a:custGeom>
            <a:avLst/>
            <a:gdLst/>
            <a:ahLst/>
            <a:rect l="l" t="t" r="r" b="b"/>
            <a:pathLst>
              <a:path w="547" h="1986">
                <a:moveTo>
                  <a:pt x="19298" y="7565"/>
                </a:moveTo>
                <a:cubicBezTo>
                  <a:pt x="19298" y="7653"/>
                  <a:pt x="19283" y="7731"/>
                  <a:pt x="19273" y="7813"/>
                </a:cubicBezTo>
                <a:cubicBezTo>
                  <a:pt x="19260" y="7916"/>
                  <a:pt x="19218" y="7937"/>
                  <a:pt x="19199" y="8037"/>
                </a:cubicBezTo>
                <a:cubicBezTo>
                  <a:pt x="19185" y="8109"/>
                  <a:pt x="19165" y="8165"/>
                  <a:pt x="19149" y="8235"/>
                </a:cubicBezTo>
                <a:cubicBezTo>
                  <a:pt x="19137" y="8288"/>
                  <a:pt x="19147" y="8336"/>
                  <a:pt x="19124" y="8384"/>
                </a:cubicBezTo>
                <a:cubicBezTo>
                  <a:pt x="19093" y="8448"/>
                  <a:pt x="19055" y="8515"/>
                  <a:pt x="19025" y="8582"/>
                </a:cubicBezTo>
                <a:cubicBezTo>
                  <a:pt x="18992" y="8655"/>
                  <a:pt x="18937" y="8744"/>
                  <a:pt x="18926" y="8830"/>
                </a:cubicBezTo>
                <a:cubicBezTo>
                  <a:pt x="18917" y="8903"/>
                  <a:pt x="18923" y="8984"/>
                  <a:pt x="18901" y="9054"/>
                </a:cubicBezTo>
                <a:cubicBezTo>
                  <a:pt x="18877" y="9130"/>
                  <a:pt x="18860" y="9180"/>
                  <a:pt x="18827" y="9252"/>
                </a:cubicBezTo>
                <a:cubicBezTo>
                  <a:pt x="18802" y="9307"/>
                  <a:pt x="18780" y="9343"/>
                  <a:pt x="18777" y="9401"/>
                </a:cubicBezTo>
                <a:cubicBezTo>
                  <a:pt x="18775" y="9455"/>
                  <a:pt x="18762" y="9484"/>
                  <a:pt x="18752" y="9525"/>
                </a:cubicBezTo>
                <a:cubicBezTo>
                  <a:pt x="18752" y="9533"/>
                  <a:pt x="18752" y="9542"/>
                  <a:pt x="18752" y="9550"/>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750080" y="2759040"/>
            <a:ext cx="117720" cy="706320"/>
          </a:xfrm>
          <a:custGeom>
            <a:avLst/>
            <a:gdLst/>
            <a:ahLst/>
            <a:rect l="l" t="t" r="r" b="b"/>
            <a:pathLst>
              <a:path w="324" h="1960">
                <a:moveTo>
                  <a:pt x="21853" y="7665"/>
                </a:moveTo>
                <a:cubicBezTo>
                  <a:pt x="21848" y="7701"/>
                  <a:pt x="21832" y="7738"/>
                  <a:pt x="21828" y="7764"/>
                </a:cubicBezTo>
                <a:cubicBezTo>
                  <a:pt x="21785" y="8049"/>
                  <a:pt x="21850" y="8351"/>
                  <a:pt x="21803" y="8632"/>
                </a:cubicBezTo>
                <a:cubicBezTo>
                  <a:pt x="21794" y="8684"/>
                  <a:pt x="21782" y="8728"/>
                  <a:pt x="21779" y="8781"/>
                </a:cubicBezTo>
                <a:cubicBezTo>
                  <a:pt x="21776" y="8838"/>
                  <a:pt x="21763" y="8861"/>
                  <a:pt x="21754" y="8905"/>
                </a:cubicBezTo>
                <a:cubicBezTo>
                  <a:pt x="21733" y="9008"/>
                  <a:pt x="21774" y="9103"/>
                  <a:pt x="21729" y="9203"/>
                </a:cubicBezTo>
                <a:cubicBezTo>
                  <a:pt x="21697" y="9275"/>
                  <a:pt x="21688" y="9356"/>
                  <a:pt x="21654" y="9426"/>
                </a:cubicBezTo>
                <a:cubicBezTo>
                  <a:pt x="21636" y="9463"/>
                  <a:pt x="21591" y="9486"/>
                  <a:pt x="21580" y="9525"/>
                </a:cubicBezTo>
                <a:cubicBezTo>
                  <a:pt x="21580" y="9550"/>
                  <a:pt x="21580" y="9558"/>
                  <a:pt x="21580" y="9575"/>
                </a:cubicBezTo>
                <a:cubicBezTo>
                  <a:pt x="21563" y="9591"/>
                  <a:pt x="21557" y="9598"/>
                  <a:pt x="21530" y="9624"/>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330960" y="3367080"/>
            <a:ext cx="1884240" cy="820800"/>
          </a:xfrm>
          <a:custGeom>
            <a:avLst/>
            <a:gdLst/>
            <a:ahLst/>
            <a:rect l="l" t="t" r="r" b="b"/>
            <a:pathLst>
              <a:path w="5234" h="2283">
                <a:moveTo>
                  <a:pt x="17711" y="9351"/>
                </a:moveTo>
                <a:cubicBezTo>
                  <a:pt x="17711" y="9559"/>
                  <a:pt x="17697" y="9771"/>
                  <a:pt x="17686" y="9971"/>
                </a:cubicBezTo>
                <a:cubicBezTo>
                  <a:pt x="17680" y="10083"/>
                  <a:pt x="17675" y="10184"/>
                  <a:pt x="17661" y="10294"/>
                </a:cubicBezTo>
                <a:cubicBezTo>
                  <a:pt x="17645" y="10423"/>
                  <a:pt x="17657" y="10563"/>
                  <a:pt x="17636" y="10691"/>
                </a:cubicBezTo>
                <a:cubicBezTo>
                  <a:pt x="17611" y="10845"/>
                  <a:pt x="17592" y="10978"/>
                  <a:pt x="17587" y="11137"/>
                </a:cubicBezTo>
                <a:cubicBezTo>
                  <a:pt x="17513" y="13340"/>
                  <a:pt x="18325" y="11510"/>
                  <a:pt x="22820" y="11013"/>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224920" y="3313080"/>
            <a:ext cx="88920" cy="615960"/>
          </a:xfrm>
          <a:custGeom>
            <a:avLst/>
            <a:gdLst/>
            <a:ahLst/>
            <a:rect l="l" t="t" r="r" b="b"/>
            <a:pathLst>
              <a:path w="249" h="1712">
                <a:moveTo>
                  <a:pt x="22845" y="10914"/>
                </a:moveTo>
                <a:cubicBezTo>
                  <a:pt x="22845" y="10839"/>
                  <a:pt x="22829" y="10756"/>
                  <a:pt x="22870" y="10691"/>
                </a:cubicBezTo>
                <a:cubicBezTo>
                  <a:pt x="22911" y="10625"/>
                  <a:pt x="22937" y="10565"/>
                  <a:pt x="22969" y="10492"/>
                </a:cubicBezTo>
                <a:cubicBezTo>
                  <a:pt x="23010" y="10396"/>
                  <a:pt x="23018" y="10275"/>
                  <a:pt x="23044" y="10170"/>
                </a:cubicBezTo>
                <a:cubicBezTo>
                  <a:pt x="23069" y="10067"/>
                  <a:pt x="23089" y="9977"/>
                  <a:pt x="23093" y="9872"/>
                </a:cubicBezTo>
                <a:cubicBezTo>
                  <a:pt x="23102" y="9650"/>
                  <a:pt x="23093" y="9425"/>
                  <a:pt x="23093" y="9203"/>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535880" y="4098960"/>
            <a:ext cx="723960" cy="509400"/>
          </a:xfrm>
          <a:custGeom>
            <a:avLst/>
            <a:gdLst/>
            <a:ahLst/>
            <a:rect l="l" t="t" r="r" b="b"/>
            <a:pathLst>
              <a:path w="2010" h="1415">
                <a:moveTo>
                  <a:pt x="21010" y="11385"/>
                </a:moveTo>
                <a:cubicBezTo>
                  <a:pt x="20998" y="11419"/>
                  <a:pt x="20970" y="11452"/>
                  <a:pt x="20960" y="11509"/>
                </a:cubicBezTo>
                <a:cubicBezTo>
                  <a:pt x="20946" y="11587"/>
                  <a:pt x="20944" y="11683"/>
                  <a:pt x="20935" y="11757"/>
                </a:cubicBezTo>
                <a:cubicBezTo>
                  <a:pt x="20915" y="11919"/>
                  <a:pt x="20915" y="12152"/>
                  <a:pt x="20960" y="12303"/>
                </a:cubicBezTo>
                <a:cubicBezTo>
                  <a:pt x="20963" y="12314"/>
                  <a:pt x="20996" y="12414"/>
                  <a:pt x="21010" y="12452"/>
                </a:cubicBezTo>
                <a:cubicBezTo>
                  <a:pt x="21038" y="12530"/>
                  <a:pt x="21116" y="12585"/>
                  <a:pt x="21183" y="12626"/>
                </a:cubicBezTo>
                <a:cubicBezTo>
                  <a:pt x="21241" y="12661"/>
                  <a:pt x="21315" y="12714"/>
                  <a:pt x="21382" y="12725"/>
                </a:cubicBezTo>
                <a:cubicBezTo>
                  <a:pt x="21471" y="12740"/>
                  <a:pt x="21565" y="12738"/>
                  <a:pt x="21654" y="12750"/>
                </a:cubicBezTo>
                <a:cubicBezTo>
                  <a:pt x="21764" y="12765"/>
                  <a:pt x="21865" y="12796"/>
                  <a:pt x="21977" y="12799"/>
                </a:cubicBezTo>
                <a:cubicBezTo>
                  <a:pt x="22146" y="12803"/>
                  <a:pt x="22395" y="12834"/>
                  <a:pt x="22547" y="12774"/>
                </a:cubicBezTo>
                <a:cubicBezTo>
                  <a:pt x="22617" y="12746"/>
                  <a:pt x="22654" y="12677"/>
                  <a:pt x="22696" y="12650"/>
                </a:cubicBezTo>
                <a:cubicBezTo>
                  <a:pt x="22792" y="12588"/>
                  <a:pt x="22779" y="12654"/>
                  <a:pt x="22820" y="12551"/>
                </a:cubicBezTo>
                <a:cubicBezTo>
                  <a:pt x="22834" y="12517"/>
                  <a:pt x="22836" y="12463"/>
                  <a:pt x="22845" y="12427"/>
                </a:cubicBezTo>
                <a:cubicBezTo>
                  <a:pt x="22866" y="12342"/>
                  <a:pt x="22932" y="12238"/>
                  <a:pt x="22944" y="12154"/>
                </a:cubicBezTo>
                <a:cubicBezTo>
                  <a:pt x="22958" y="12051"/>
                  <a:pt x="22926" y="11894"/>
                  <a:pt x="22920" y="11832"/>
                </a:cubicBezTo>
                <a:cubicBezTo>
                  <a:pt x="22915" y="11783"/>
                  <a:pt x="22906" y="11778"/>
                  <a:pt x="22895" y="11757"/>
                </a:cubicBezTo>
                <a:cubicBezTo>
                  <a:pt x="22876" y="11720"/>
                  <a:pt x="22838" y="11706"/>
                  <a:pt x="22820" y="11683"/>
                </a:cubicBezTo>
                <a:cubicBezTo>
                  <a:pt x="22805" y="11664"/>
                  <a:pt x="22806" y="11627"/>
                  <a:pt x="22796" y="11609"/>
                </a:cubicBezTo>
                <a:cubicBezTo>
                  <a:pt x="22780" y="11580"/>
                  <a:pt x="22760" y="11547"/>
                  <a:pt x="22746" y="11534"/>
                </a:cubicBezTo>
                <a:cubicBezTo>
                  <a:pt x="22723" y="11512"/>
                  <a:pt x="22716" y="11512"/>
                  <a:pt x="22696" y="11485"/>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912080" y="4303800"/>
            <a:ext cx="1440" cy="214200"/>
          </a:xfrm>
          <a:custGeom>
            <a:avLst/>
            <a:gdLst/>
            <a:ahLst/>
            <a:rect l="l" t="t" r="r" b="b"/>
            <a:pathLst>
              <a:path w="1" h="596">
                <a:moveTo>
                  <a:pt x="21977" y="11956"/>
                </a:moveTo>
                <a:cubicBezTo>
                  <a:pt x="21977" y="12154"/>
                  <a:pt x="21977" y="12353"/>
                  <a:pt x="21977" y="12551"/>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31T23:26:00Z</dcterms:created>
  <dc:creator>room17</dc:creator>
  <dc:description/>
  <dc:language>en-US</dc:language>
  <cp:lastModifiedBy>room17</cp:lastModifiedBy>
  <dcterms:modified xsi:type="dcterms:W3CDTF">2008-09-19T00:51:37Z</dcterms:modified>
  <cp:revision>11</cp:revision>
  <dc:subject/>
  <dc:title>New arrivals</dc:title>
</cp:coreProperties>
</file>